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062BA-EBC5-4445-B56A-E19A5470A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2EFC9-9886-4A67-BD49-B48CAF6CB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3CFDE-6419-4115-B700-27E8241AC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ACB00-42D8-4C5B-B7FC-B32C99F6C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72CBE-1163-46D6-8C4E-1B14F5E16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209D3-30A1-45D5-A433-B976A8028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61449-CC4E-4F6A-B822-777C4B323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A4A12-960A-483B-926A-51D468952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D046D-C8DB-47B5-A466-27F92347A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99BA8-2DDE-4153-B09D-411633D81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70505-9930-4ECD-9805-A2BF6DD4D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DA1AD-5719-4D1F-9B34-0535E8592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D191-AE9F-4ECC-BD23-64FA2AACFED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tierraviva.net/"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losriosorganico@gmail.com"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684000" y="836280"/>
            <a:ext cx="8064360" cy="53895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DE LA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GRUPACIONES DE PRODUCTORES ORGÁNICOS</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unión Comisión Nacional de Agricultura Orgánica</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artes 7 de diciembre de 201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Que es lo queremos para el futuro de la agricultura orgánica en Chile</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poyo a una </a:t>
            </a:r>
            <a:r>
              <a:rPr b="1" lang="es-CL" sz="2000" spc="-1" strike="noStrike">
                <a:solidFill>
                  <a:srgbClr val="000000"/>
                </a:solidFill>
                <a:latin typeface="Calibri"/>
              </a:rPr>
              <a:t>moratoria total a la liberación de los transgénicos</a:t>
            </a:r>
            <a:r>
              <a:rPr b="0" lang="es-CL" sz="2000" spc="-1" strike="noStrike">
                <a:solidFill>
                  <a:srgbClr val="000000"/>
                </a:solidFill>
                <a:latin typeface="Calibri"/>
              </a:rPr>
              <a:t> en Chile y el establecimiento de etiquetado para los productos finales importados que son transgénico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echazo </a:t>
            </a:r>
            <a:r>
              <a:rPr b="0" lang="es-CL" sz="2000" spc="-1" strike="noStrike">
                <a:solidFill>
                  <a:srgbClr val="000000"/>
                </a:solidFill>
                <a:latin typeface="Calibri"/>
              </a:rPr>
              <a:t>al establecimiento de todas las disposiciones juridicas que impliquen en forma abierta o encubierta </a:t>
            </a:r>
            <a:r>
              <a:rPr b="1" lang="es-CL" sz="2000" spc="-1" strike="noStrike">
                <a:solidFill>
                  <a:srgbClr val="000000"/>
                </a:solidFill>
                <a:latin typeface="Calibri"/>
              </a:rPr>
              <a:t>la autorización de la liberación total de siembra de cultivos transgénicos</a:t>
            </a:r>
            <a:r>
              <a:rPr b="0" lang="es-CL" sz="2000" spc="-1" strike="noStrike">
                <a:solidFill>
                  <a:srgbClr val="000000"/>
                </a:solidFill>
                <a:latin typeface="Calibri"/>
              </a:rPr>
              <a:t> en el país poniendo en peligro todas las exportaciones agrícola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poyo a las </a:t>
            </a:r>
            <a:r>
              <a:rPr b="1" lang="es-CL" sz="2000" spc="-1" strike="noStrike">
                <a:solidFill>
                  <a:srgbClr val="000000"/>
                </a:solidFill>
                <a:latin typeface="Calibri"/>
              </a:rPr>
              <a:t>medidas  tendientes a defender a los pequeños</a:t>
            </a:r>
            <a:r>
              <a:rPr b="0" lang="es-CL" sz="2000" spc="-1" strike="noStrike">
                <a:solidFill>
                  <a:srgbClr val="000000"/>
                </a:solidFill>
                <a:latin typeface="Calibri"/>
              </a:rPr>
              <a:t> y medianos productores(as) agrícolas que actualmente abastecen de productos alimentarios a nuestra población y cuyo </a:t>
            </a:r>
            <a:r>
              <a:rPr b="1" lang="es-CL" sz="2000" spc="-1" strike="noStrike">
                <a:solidFill>
                  <a:srgbClr val="000000"/>
                </a:solidFill>
                <a:latin typeface="Calibri"/>
              </a:rPr>
              <a:t>modo de producción se ve amenazado por el avance de las leyes</a:t>
            </a:r>
            <a:r>
              <a:rPr b="0" lang="es-CL" sz="2000" spc="-1" strike="noStrike">
                <a:solidFill>
                  <a:srgbClr val="000000"/>
                </a:solidFill>
                <a:latin typeface="Calibri"/>
              </a:rPr>
              <a:t> actualmente tramitadas en el congres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 name="Picture 6" descr="logo BBO"/>
          <p:cNvPicPr/>
          <p:nvPr/>
        </p:nvPicPr>
        <p:blipFill>
          <a:blip r:embed="rId1"/>
          <a:stretch/>
        </p:blipFill>
        <p:spPr>
          <a:xfrm>
            <a:off x="7596360" y="5877000"/>
            <a:ext cx="1161720" cy="619200"/>
          </a:xfrm>
          <a:prstGeom prst="rect">
            <a:avLst/>
          </a:prstGeom>
          <a:ln w="0">
            <a:noFill/>
          </a:ln>
        </p:spPr>
      </p:pic>
      <p:pic>
        <p:nvPicPr>
          <p:cNvPr id="63" name="Picture 7" descr="logo BBO"/>
          <p:cNvPicPr/>
          <p:nvPr/>
        </p:nvPicPr>
        <p:blipFill>
          <a:blip r:embed="rId2"/>
          <a:stretch/>
        </p:blipFill>
        <p:spPr>
          <a:xfrm>
            <a:off x="7596360" y="5877000"/>
            <a:ext cx="1161720" cy="6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Calibri"/>
            </a:endParaRPr>
          </a:p>
        </p:txBody>
      </p:sp>
      <p:sp>
        <p:nvSpPr>
          <p:cNvPr id="65" name="PlaceHolder 2"/>
          <p:cNvSpPr>
            <a:spLocks noGrp="1"/>
          </p:cNvSpPr>
          <p:nvPr>
            <p:ph/>
          </p:nvPr>
        </p:nvSpPr>
        <p:spPr>
          <a:xfrm>
            <a:off x="468360" y="836280"/>
            <a:ext cx="8229600" cy="5545080"/>
          </a:xfrm>
          <a:prstGeom prst="rect">
            <a:avLst/>
          </a:prstGeom>
          <a:noFill/>
          <a:ln w="0">
            <a:noFill/>
          </a:ln>
        </p:spPr>
        <p:txBody>
          <a:bodyPr anchor="t">
            <a:normAutofit fontScale="83000"/>
          </a:bodyPr>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poyo a las demandas de Chiloe Organico A.G., de B.B.O.A.G., y Ra-pal al SAG sobre </a:t>
            </a:r>
            <a:r>
              <a:rPr b="1" lang="es-CL" sz="2000" spc="-1" strike="noStrike">
                <a:solidFill>
                  <a:srgbClr val="000000"/>
                </a:solidFill>
                <a:latin typeface="Calibri"/>
              </a:rPr>
              <a:t>acceso a la ubicación exacta de los semilleros transgénicos</a:t>
            </a:r>
            <a:r>
              <a:rPr b="0" lang="es-CL" sz="2000" spc="-1" strike="noStrike">
                <a:solidFill>
                  <a:srgbClr val="000000"/>
                </a:solidFill>
                <a:latin typeface="Calibri"/>
              </a:rPr>
              <a:t>. Es un llamado a que el estado asegure el libre acceso a las semillas y la continuidad de la práctica tradicional del intercambio de semillas entre agricultores.</a:t>
            </a: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igencia de que se asignen fondos públicos para financiar </a:t>
            </a:r>
            <a:r>
              <a:rPr b="1" lang="es-CL" sz="2000" spc="-1" strike="noStrike">
                <a:solidFill>
                  <a:srgbClr val="000000"/>
                </a:solidFill>
                <a:latin typeface="Calibri"/>
              </a:rPr>
              <a:t>investigación independiente</a:t>
            </a:r>
            <a:r>
              <a:rPr b="0" lang="es-CL" sz="2000" spc="-1" strike="noStrike">
                <a:solidFill>
                  <a:srgbClr val="000000"/>
                </a:solidFill>
                <a:latin typeface="Calibri"/>
              </a:rPr>
              <a:t> sobre los efectos de los transgénicos en la salud de los consumidores.</a:t>
            </a: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mpulso al establecimiento de un </a:t>
            </a:r>
            <a:r>
              <a:rPr b="1" lang="es-CL" sz="2000" spc="-1" strike="noStrike">
                <a:solidFill>
                  <a:srgbClr val="000000"/>
                </a:solidFill>
                <a:latin typeface="Calibri"/>
              </a:rPr>
              <a:t>sistema de bimonitoreo</a:t>
            </a:r>
            <a:r>
              <a:rPr b="0" lang="es-CL" sz="2000" spc="-1" strike="noStrike">
                <a:solidFill>
                  <a:srgbClr val="000000"/>
                </a:solidFill>
                <a:latin typeface="Calibri"/>
              </a:rPr>
              <a:t> , y la adopción de medidas tendientes a mitigar / revertir la contaminación transgénica provocada por los actuales semilleros de exportación.</a:t>
            </a: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isponibilidad para trabajar y aportar en torno a la elaboración y aprobación de una </a:t>
            </a:r>
            <a:r>
              <a:rPr b="1" lang="es-CL" sz="2000" spc="-1" strike="noStrike">
                <a:solidFill>
                  <a:srgbClr val="000000"/>
                </a:solidFill>
                <a:latin typeface="Calibri"/>
              </a:rPr>
              <a:t>Ley de Protección a la Biodiversidad</a:t>
            </a:r>
            <a:r>
              <a:rPr b="0" lang="es-CL" sz="2000" spc="-1" strike="noStrike">
                <a:solidFill>
                  <a:srgbClr val="000000"/>
                </a:solidFill>
                <a:latin typeface="Calibri"/>
              </a:rPr>
              <a:t> que asegure la conservación y resguardo a la semilla nativa y del patrimonio genético de nuestro país.</a:t>
            </a:r>
            <a:endParaRPr b="0" lang="en-US" sz="2000" spc="-1" strike="noStrike">
              <a:solidFill>
                <a:srgbClr val="000000"/>
              </a:solidFill>
              <a:latin typeface="Calibri"/>
            </a:endParaRPr>
          </a:p>
          <a:p>
            <a:pPr lvl="4" marL="17074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4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4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4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4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4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4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4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4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440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 spc="-1" strike="noStrike">
                <a:solidFill>
                  <a:srgbClr val="000000"/>
                </a:solidFill>
                <a:latin typeface="Calibri"/>
              </a:rPr>
              <a:t>  </a:t>
            </a:r>
            <a:endParaRPr b="0" lang="en-US" sz="500" spc="-1" strike="noStrike">
              <a:solidFill>
                <a:srgbClr val="000000"/>
              </a:solidFill>
              <a:latin typeface="Calibri"/>
            </a:endParaRPr>
          </a:p>
          <a:p>
            <a:pPr marL="284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4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pic>
        <p:nvPicPr>
          <p:cNvPr id="66" name="Picture 4" descr="logo BBO"/>
          <p:cNvPicPr/>
          <p:nvPr/>
        </p:nvPicPr>
        <p:blipFill>
          <a:blip r:embed="rId1"/>
          <a:stretch/>
        </p:blipFill>
        <p:spPr>
          <a:xfrm>
            <a:off x="7020000" y="5516640"/>
            <a:ext cx="1162080" cy="6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TVLogo2"/>
          <p:cNvPicPr/>
          <p:nvPr/>
        </p:nvPicPr>
        <p:blipFill>
          <a:blip r:embed="rId1"/>
          <a:stretch/>
        </p:blipFill>
        <p:spPr>
          <a:xfrm>
            <a:off x="2916360" y="836640"/>
            <a:ext cx="2877840" cy="2160720"/>
          </a:xfrm>
          <a:prstGeom prst="rect">
            <a:avLst/>
          </a:prstGeom>
          <a:ln w="0">
            <a:noFill/>
          </a:ln>
        </p:spPr>
      </p:pic>
      <p:sp>
        <p:nvSpPr>
          <p:cNvPr id="68" name=""/>
          <p:cNvSpPr txBox="1"/>
          <p:nvPr/>
        </p:nvSpPr>
        <p:spPr>
          <a:xfrm>
            <a:off x="611280" y="2708280"/>
            <a:ext cx="8229600" cy="341784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sociación de Agricultores Orgánico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Tierra Viva A.G</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ff"/>
                </a:solidFill>
                <a:uFillTx/>
                <a:latin typeface="Calibri"/>
                <a:hlinkClick r:id="rId2"/>
              </a:rPr>
              <a:t>http://www.tierraviva.ne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TVLogo2"/>
          <p:cNvPicPr/>
          <p:nvPr/>
        </p:nvPicPr>
        <p:blipFill>
          <a:blip r:embed="rId1"/>
          <a:stretch/>
        </p:blipFill>
        <p:spPr>
          <a:xfrm>
            <a:off x="6372360" y="981000"/>
            <a:ext cx="1439640" cy="1081080"/>
          </a:xfrm>
          <a:prstGeom prst="rect">
            <a:avLst/>
          </a:prstGeom>
          <a:ln w="0">
            <a:noFill/>
          </a:ln>
        </p:spPr>
      </p:pic>
      <p:sp>
        <p:nvSpPr>
          <p:cNvPr id="70" name="Text Box 6"/>
          <p:cNvSpPr/>
          <p:nvPr/>
        </p:nvSpPr>
        <p:spPr>
          <a:xfrm>
            <a:off x="1559520" y="476280"/>
            <a:ext cx="676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sociación de Agricultores Orgánicos Tierra Viva A.G</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71" name="Text Box 7"/>
          <p:cNvSpPr/>
          <p:nvPr/>
        </p:nvSpPr>
        <p:spPr>
          <a:xfrm>
            <a:off x="539640" y="981000"/>
            <a:ext cx="8136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ociación fundada en 19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ntidad de socios actualmente 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bjetivo</a:t>
            </a:r>
            <a:r>
              <a:rPr b="0" lang="es-CL" sz="1800" spc="-1" strike="noStrike">
                <a:solidFill>
                  <a:srgbClr val="000000"/>
                </a:solidFill>
                <a:latin typeface="Arial"/>
              </a:rPr>
              <a:t>: Promover la Agricultura Orgánica en el paí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isión</a:t>
            </a:r>
            <a:r>
              <a:rPr b="0" lang="es-C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ar un lugar de encuentro para productores agroecológico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ercializar la producción de sus asociados en el mercado nac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segurar credibilidad con certificación participativa y con estrecho contacto con los cli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esarrollar y diversificar la producción respetando criterios de justicia social, ambientales y de sustent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éreas de Tr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ducción</a:t>
            </a:r>
            <a:r>
              <a:rPr b="0" lang="es-CL" sz="1800" spc="-1" strike="noStrike">
                <a:solidFill>
                  <a:srgbClr val="000000"/>
                </a:solidFill>
                <a:latin typeface="Arial"/>
              </a:rPr>
              <a:t> llevada a cabo por los agricultores socios según la norma técnica de la Ley 2008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mercialización</a:t>
            </a:r>
            <a:r>
              <a:rPr b="0" lang="es-CL" sz="1800" spc="-1" strike="noStrike">
                <a:solidFill>
                  <a:srgbClr val="000000"/>
                </a:solidFill>
                <a:latin typeface="Arial"/>
              </a:rPr>
              <a:t> de la producción a través de la Soc. Comercializadora Tierra Viva Lt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pacitación</a:t>
            </a:r>
            <a:r>
              <a:rPr b="0" lang="es-CL" sz="1800" spc="-1" strike="noStrike">
                <a:solidFill>
                  <a:srgbClr val="000000"/>
                </a:solidFill>
                <a:latin typeface="Arial"/>
              </a:rPr>
              <a:t> de sus miembros, consumidores y de la población  en gen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fusión</a:t>
            </a:r>
            <a:r>
              <a:rPr b="0" lang="es-CL" sz="1800" spc="-1" strike="noStrike">
                <a:solidFill>
                  <a:srgbClr val="000000"/>
                </a:solidFill>
                <a:latin typeface="Arial"/>
              </a:rPr>
              <a:t> de sus técnicas de producción orgánica, ventajas y benefi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ertificación:</a:t>
            </a:r>
            <a:r>
              <a:rPr b="0" lang="es-CL" sz="1800" spc="-1" strike="noStrike">
                <a:solidFill>
                  <a:srgbClr val="1f497d"/>
                </a:solidFill>
                <a:latin typeface="Arial"/>
              </a:rPr>
              <a:t> </a:t>
            </a:r>
            <a:r>
              <a:rPr b="0" lang="es-CL" sz="1800" spc="-1" strike="noStrike">
                <a:solidFill>
                  <a:srgbClr val="000000"/>
                </a:solidFill>
                <a:latin typeface="Arial"/>
              </a:rPr>
              <a:t>Primera Asociación de Pequeños Agricultores con Sistema Participativo de Garantía acreditada frente al S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8" descr="grupo 4 b"/>
          <p:cNvPicPr/>
          <p:nvPr/>
        </p:nvPicPr>
        <p:blipFill>
          <a:blip r:embed="rId1"/>
          <a:stretch/>
        </p:blipFill>
        <p:spPr>
          <a:xfrm>
            <a:off x="395280" y="3141720"/>
            <a:ext cx="3600360" cy="2725560"/>
          </a:xfrm>
          <a:prstGeom prst="rect">
            <a:avLst/>
          </a:prstGeom>
          <a:ln w="0">
            <a:noFill/>
          </a:ln>
        </p:spPr>
      </p:pic>
      <p:pic>
        <p:nvPicPr>
          <p:cNvPr id="73" name="Picture 9" descr="BAB009 Kopie"/>
          <p:cNvPicPr/>
          <p:nvPr/>
        </p:nvPicPr>
        <p:blipFill>
          <a:blip r:embed="rId2"/>
          <a:stretch/>
        </p:blipFill>
        <p:spPr>
          <a:xfrm>
            <a:off x="4427640" y="3068640"/>
            <a:ext cx="4176720" cy="2781360"/>
          </a:xfrm>
          <a:prstGeom prst="rect">
            <a:avLst/>
          </a:prstGeom>
          <a:ln w="0">
            <a:noFill/>
          </a:ln>
        </p:spPr>
      </p:pic>
      <p:sp>
        <p:nvSpPr>
          <p:cNvPr id="74" name="Text Box 12"/>
          <p:cNvSpPr/>
          <p:nvPr/>
        </p:nvSpPr>
        <p:spPr>
          <a:xfrm>
            <a:off x="519120" y="549360"/>
            <a:ext cx="8300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ficultad</a:t>
            </a:r>
            <a:r>
              <a:rPr b="0" lang="es-CL" sz="1800" spc="-1" strike="noStrike">
                <a:solidFill>
                  <a:srgbClr val="000000"/>
                </a:solidFill>
                <a:latin typeface="Arial"/>
              </a:rPr>
              <a:t>: Impedimento de los socios de poder comercializar sus productos a terceros (intermediarios) según Art. 3° de la Ley 2008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tuación muy injusta ya que este tipo de certificación es segura y fiscalizada por el S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muchas dificultades mas y están plasmadas en el Plan Estratégico elaborado el año 2010 por ODEPA en conjunto con todas las organiz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sociación Gremial de Productores </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Ríos Orgánico</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Región de Los Ríos</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ff"/>
                </a:solidFill>
                <a:uFillTx/>
                <a:latin typeface="Calibri"/>
                <a:hlinkClick r:id="rId1"/>
              </a:rPr>
              <a:t>losriosorganico@gmail.com</a:t>
            </a:r>
            <a:r>
              <a:rPr b="0" lang="es-ES"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6" name="Picture 2" descr="?attid=0"/>
          <p:cNvPicPr/>
          <p:nvPr/>
        </p:nvPicPr>
        <p:blipFill>
          <a:blip r:embed="rId2"/>
          <a:stretch/>
        </p:blipFill>
        <p:spPr>
          <a:xfrm>
            <a:off x="3348000" y="765000"/>
            <a:ext cx="1900440" cy="165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sociación Gremial de Productores Los Ríos Orgánico</a:t>
            </a:r>
            <a:br>
              <a:rPr sz="2400"/>
            </a:br>
            <a:r>
              <a:rPr b="0" lang="es-ES" sz="2400" spc="-1" strike="noStrike">
                <a:solidFill>
                  <a:srgbClr val="000000"/>
                </a:solidFill>
                <a:latin typeface="Calibri"/>
              </a:rPr>
              <a:t>Aportes Para La Discusión En Reunión De CNAO</a:t>
            </a:r>
            <a:br>
              <a:rPr sz="2400"/>
            </a:br>
            <a:endParaRPr b="0" lang="en-US" sz="2400" spc="-1" strike="noStrike">
              <a:solidFill>
                <a:srgbClr val="000000"/>
              </a:solidFill>
              <a:latin typeface="Calibri"/>
            </a:endParaRPr>
          </a:p>
        </p:txBody>
      </p:sp>
      <p:sp>
        <p:nvSpPr>
          <p:cNvPr id="78" name=""/>
          <p:cNvSpPr txBox="1"/>
          <p:nvPr/>
        </p:nvSpPr>
        <p:spPr>
          <a:xfrm>
            <a:off x="250560" y="1413000"/>
            <a:ext cx="8713800" cy="4713120"/>
          </a:xfrm>
          <a:prstGeom prst="rect">
            <a:avLst/>
          </a:prstGeom>
          <a:noFill/>
          <a:ln w="0">
            <a:noFill/>
          </a:ln>
        </p:spPr>
        <p:txBody>
          <a:bodyPr anchor="t">
            <a:normAutofit fontScale="95000"/>
          </a:bodyPr>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istema de Incentivos para la Recuperación de Suelos Degradados (SIRSD)</a:t>
            </a:r>
            <a:r>
              <a:rPr b="0" lang="es-ES" sz="2400" spc="-1" strike="noStrike">
                <a:solidFill>
                  <a:srgbClr val="000000"/>
                </a:solidFill>
                <a:latin typeface="Calibri"/>
              </a:rPr>
              <a:t>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agricultores orgánicos mejoramos la productividad del suelo, mediante practicas de manejo que protegen y promueven la actividad biológica del suelo, con muy buenos resultados en los rendimientos y rentabilidad de nuestros cultiv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a apoyar estas prácticas, se requiere que el Programa SIRSD incluya y facilite el uso de insumos o enmiendas como roca fosfórica, guano rojo o  compost, entre otros y también, prácticas como abonos verdes y rotaciones de cultivos. Oficinas y funcionarios locales de INDAP, SAG e INIA en general desconocen estos beneficios, cuando se presentan en los planes de manejo de los agricultores orgánico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Picture 2" descr="?attid=0"/>
          <p:cNvPicPr/>
          <p:nvPr/>
        </p:nvPicPr>
        <p:blipFill>
          <a:blip r:embed="rId1"/>
          <a:stretch/>
        </p:blipFill>
        <p:spPr>
          <a:xfrm>
            <a:off x="468360" y="260280"/>
            <a:ext cx="1320840" cy="115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sociación Gremial de Productores Los Ríos Orgánico</a:t>
            </a:r>
            <a:br>
              <a:rPr sz="2400"/>
            </a:br>
            <a:r>
              <a:rPr b="0" lang="es-ES" sz="2400" spc="-1" strike="noStrike">
                <a:solidFill>
                  <a:srgbClr val="000000"/>
                </a:solidFill>
                <a:latin typeface="Calibri"/>
              </a:rPr>
              <a:t>Aportes Para La Discusión En Reunión De CNAO</a:t>
            </a:r>
            <a:br>
              <a:rPr sz="2400"/>
            </a:br>
            <a:endParaRPr b="0" lang="en-US" sz="2400" spc="-1" strike="noStrike">
              <a:solidFill>
                <a:srgbClr val="000000"/>
              </a:solidFill>
              <a:latin typeface="Calibri"/>
            </a:endParaRPr>
          </a:p>
        </p:txBody>
      </p:sp>
      <p:sp>
        <p:nvSpPr>
          <p:cNvPr id="81" name=""/>
          <p:cNvSpPr txBox="1"/>
          <p:nvPr/>
        </p:nvSpPr>
        <p:spPr>
          <a:xfrm>
            <a:off x="323640" y="1413000"/>
            <a:ext cx="8569080" cy="4713120"/>
          </a:xfrm>
          <a:prstGeom prst="rect">
            <a:avLst/>
          </a:prstGeom>
          <a:noFill/>
          <a:ln w="0">
            <a:noFill/>
          </a:ln>
        </p:spPr>
        <p:txBody>
          <a:bodyPr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ertificación Orgánica</a:t>
            </a:r>
            <a:endParaRPr b="0" lang="en-US" sz="2400" spc="-1" strike="noStrike">
              <a:solidFill>
                <a:srgbClr val="000000"/>
              </a:solidFill>
              <a:latin typeface="Calibri"/>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mos organizado cursos de capacitación y talleres de entrenamiento para iniciar el proceso de acreditación en el SAG para la certificación orgánica en la Norma Chilena bajo el Sistema de Control Interno</a:t>
            </a:r>
            <a:endParaRPr b="0" lang="en-US" sz="2400" spc="-1" strike="noStrike">
              <a:solidFill>
                <a:srgbClr val="000000"/>
              </a:solidFill>
              <a:latin typeface="Calibri"/>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ecesitamos modificar la Norma Chilena de modo que las organizaciones de pequeños productores con Sistema de Control Interno acreditado puedan comercializar con este sello orgánico, tanto en forma directa como también a diversos distribuidores a nivel nacional, como tiendas especializadas, supermercados y otros</a:t>
            </a:r>
            <a:endParaRPr b="0" lang="en-US" sz="2400" spc="-1" strike="noStrike">
              <a:solidFill>
                <a:srgbClr val="000000"/>
              </a:solidFill>
              <a:latin typeface="Calibri"/>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pequeña producción es base del empleo y desarrollo de cultura rural y su principal mercado es el mercado local y regional</a:t>
            </a:r>
            <a:endParaRPr b="0" lang="en-US" sz="2400" spc="-1" strike="noStrike">
              <a:solidFill>
                <a:srgbClr val="000000"/>
              </a:solidFill>
              <a:latin typeface="Calibri"/>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attid=0"/>
          <p:cNvPicPr/>
          <p:nvPr/>
        </p:nvPicPr>
        <p:blipFill>
          <a:blip r:embed="rId1"/>
          <a:stretch/>
        </p:blipFill>
        <p:spPr>
          <a:xfrm>
            <a:off x="468360" y="260280"/>
            <a:ext cx="1320840" cy="115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sociación Gremial de Productores Los Ríos Orgánico</a:t>
            </a:r>
            <a:br>
              <a:rPr sz="2400"/>
            </a:br>
            <a:r>
              <a:rPr b="0" lang="es-ES" sz="2400" spc="-1" strike="noStrike">
                <a:solidFill>
                  <a:srgbClr val="000000"/>
                </a:solidFill>
                <a:latin typeface="Calibri"/>
              </a:rPr>
              <a:t>Aportes Para La Discusión En Reunión De CNAO</a:t>
            </a:r>
            <a:br>
              <a:rPr sz="2400"/>
            </a:br>
            <a:endParaRPr b="0" lang="en-US" sz="2400" spc="-1" strike="noStrike">
              <a:solidFill>
                <a:srgbClr val="000000"/>
              </a:solidFill>
              <a:latin typeface="Calibri"/>
            </a:endParaRPr>
          </a:p>
        </p:txBody>
      </p:sp>
      <p:sp>
        <p:nvSpPr>
          <p:cNvPr id="84" name=""/>
          <p:cNvSpPr txBox="1"/>
          <p:nvPr/>
        </p:nvSpPr>
        <p:spPr>
          <a:xfrm>
            <a:off x="323640" y="1413000"/>
            <a:ext cx="8569080" cy="47131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otección de Semillas y Material Genético Local</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agricultores orgánicos protegemos y promovemos la biodiversidad local, como estrategia de productividad, rentabilidad y sustentabilidad ecológica, pero también como estrategia cultural de desarrollo local con autosuficiencia, autonomía e identi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a esto, se requiere impulsar programas regionales de conservación,  protección y desarrollo del patrimonio genético local y territorial, de semillas de especies y variedades nativas y criollas. Al mismo tiempo, se debe poner urgente cuidado y resguardo frente a los riesgos de pérdida de biodiversidad, por la aplicación de leyes de patentes vegetales o por contaminación por el cultivo de organismos genéticamente modificado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attid=0"/>
          <p:cNvPicPr/>
          <p:nvPr/>
        </p:nvPicPr>
        <p:blipFill>
          <a:blip r:embed="rId1"/>
          <a:stretch/>
        </p:blipFill>
        <p:spPr>
          <a:xfrm>
            <a:off x="468360" y="260280"/>
            <a:ext cx="1320840" cy="11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sociación Gremial de Productores Los Ríos Orgánico</a:t>
            </a:r>
            <a:br>
              <a:rPr sz="2400"/>
            </a:br>
            <a:r>
              <a:rPr b="0" lang="es-ES" sz="2400" spc="-1" strike="noStrike">
                <a:solidFill>
                  <a:srgbClr val="000000"/>
                </a:solidFill>
                <a:latin typeface="Calibri"/>
              </a:rPr>
              <a:t>Aportes Para La Discusión En Reunión De CNAO</a:t>
            </a:r>
            <a:br>
              <a:rPr sz="2400"/>
            </a:br>
            <a:endParaRPr b="0" lang="en-US" sz="2400" spc="-1" strike="noStrike">
              <a:solidFill>
                <a:srgbClr val="000000"/>
              </a:solidFill>
              <a:latin typeface="Calibri"/>
            </a:endParaRPr>
          </a:p>
        </p:txBody>
      </p:sp>
      <p:sp>
        <p:nvSpPr>
          <p:cNvPr id="87" name=""/>
          <p:cNvSpPr txBox="1"/>
          <p:nvPr/>
        </p:nvSpPr>
        <p:spPr>
          <a:xfrm>
            <a:off x="323640" y="1413000"/>
            <a:ext cx="8569080" cy="471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Organización y Alianz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Asociación Gremial de Productores Los Ríos Orgánico, agrupa actualmente a 60 pequeños agricultores de diversas comunas de la Región de Los Río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ticipa liderando el Comité Regional de Agricultura Orgánica (CRAO), junto a otras instituciones regionales, con sede en la SEREMI de Agricultura, en Valdivi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mismo tiempo, tiene lazos de cooperación por afinidad con otras organizaciones de productores como la Red de Los Lagos y la Asociación Tierra Viva, en el Movimiento Agroecológico Chileno (MA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2" descr="?attid=0"/>
          <p:cNvPicPr/>
          <p:nvPr/>
        </p:nvPicPr>
        <p:blipFill>
          <a:blip r:embed="rId1"/>
          <a:stretch/>
        </p:blipFill>
        <p:spPr>
          <a:xfrm>
            <a:off x="468360" y="260280"/>
            <a:ext cx="132084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12" descr="j0316892"/>
          <p:cNvPicPr/>
          <p:nvPr/>
        </p:nvPicPr>
        <p:blipFill>
          <a:blip r:embed="rId1"/>
          <a:stretch/>
        </p:blipFill>
        <p:spPr>
          <a:xfrm>
            <a:off x="-366840" y="0"/>
            <a:ext cx="9877680" cy="6858000"/>
          </a:xfrm>
          <a:prstGeom prst="rect">
            <a:avLst/>
          </a:prstGeom>
          <a:ln w="0">
            <a:noFill/>
          </a:ln>
        </p:spPr>
      </p:pic>
      <p:sp>
        <p:nvSpPr>
          <p:cNvPr id="43" name="Rectangle 10"/>
          <p:cNvSpPr/>
          <p:nvPr/>
        </p:nvSpPr>
        <p:spPr>
          <a:xfrm>
            <a:off x="941400" y="4030560"/>
            <a:ext cx="7273800" cy="1684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ury Gothic"/>
                <a:ea typeface="Arial Unicode MS"/>
              </a:rPr>
              <a:t>Agrupación de Agricultura Orgánica de Chile</a:t>
            </a:r>
            <a:endParaRPr b="0" lang="en-US" sz="2800" spc="-1" strike="noStrike">
              <a:solidFill>
                <a:srgbClr val="000000"/>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ea typeface="Arial Unicode MS"/>
              </a:rPr>
              <a:t>Fundada en 1999</a:t>
            </a:r>
            <a:endParaRPr b="0" lang="en-US" sz="2000" spc="-1" strike="noStrike">
              <a:solidFill>
                <a:srgbClr val="000000"/>
              </a:solidFill>
              <a:latin typeface="Arial"/>
            </a:endParaRPr>
          </a:p>
        </p:txBody>
      </p:sp>
      <p:sp>
        <p:nvSpPr>
          <p:cNvPr id="44" name="Rectangle 11"/>
          <p:cNvSpPr/>
          <p:nvPr/>
        </p:nvSpPr>
        <p:spPr>
          <a:xfrm>
            <a:off x="2631960" y="5943600"/>
            <a:ext cx="387828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ea typeface="Arial Unicode MS"/>
              </a:rPr>
              <a:t>www.aaoch.cl</a:t>
            </a:r>
            <a:endParaRPr b="0" lang="en-US" sz="2000" spc="-1" strike="noStrike">
              <a:solidFill>
                <a:srgbClr val="000000"/>
              </a:solidFill>
              <a:latin typeface="Arial"/>
            </a:endParaRPr>
          </a:p>
        </p:txBody>
      </p:sp>
      <p:pic>
        <p:nvPicPr>
          <p:cNvPr id="45" name="Picture 13" descr="Imagen3"/>
          <p:cNvPicPr/>
          <p:nvPr/>
        </p:nvPicPr>
        <p:blipFill>
          <a:blip r:embed="rId2"/>
          <a:stretch/>
        </p:blipFill>
        <p:spPr>
          <a:xfrm>
            <a:off x="2138400" y="765000"/>
            <a:ext cx="4867200" cy="2837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3">
                                            <p:txEl>
                                              <p:pRg st="0" end="0"/>
                                            </p:txEl>
                                          </p:spTgt>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43">
                                            <p:txEl>
                                              <p:pRg st="1" end="1"/>
                                            </p:txEl>
                                          </p:spTgt>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Red de Productores Orgánico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Décima Región A.G.</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dorganicadecima@gmail.com</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Red de Productores Orgánicos Décima Región A.G.</a:t>
            </a:r>
            <a:endParaRPr b="0" lang="en-US" sz="2800" spc="-1" strike="noStrike">
              <a:solidFill>
                <a:srgbClr val="000000"/>
              </a:solidFill>
              <a:latin typeface="Calibri"/>
            </a:endParaRPr>
          </a:p>
        </p:txBody>
      </p:sp>
      <p:sp>
        <p:nvSpPr>
          <p:cNvPr id="92" name=""/>
          <p:cNvSpPr txBox="1"/>
          <p:nvPr/>
        </p:nvSpPr>
        <p:spPr>
          <a:xfrm>
            <a:off x="457200" y="981000"/>
            <a:ext cx="8229600" cy="51451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a:t>
            </a:r>
            <a:r>
              <a:rPr b="1" lang="es-CL" sz="2000" spc="-1" strike="noStrike">
                <a:solidFill>
                  <a:srgbClr val="000000"/>
                </a:solidFill>
                <a:latin typeface="Calibri"/>
              </a:rPr>
              <a:t> </a:t>
            </a:r>
            <a:r>
              <a:rPr b="0" lang="es-CL" sz="2000" spc="-1" strike="noStrike">
                <a:solidFill>
                  <a:srgbClr val="000000"/>
                </a:solidFill>
                <a:latin typeface="Calibri"/>
              </a:rPr>
              <a:t>Red de Productores Orgánicos Décima región A.G. es una Asociación Gremial que agrupa agricultores orgánicos de diversas comunas de la Región de Los Lago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tamos con un registro de 120 socios inscritos, con una superficie total de 1.600 hectáreas, con diversos rubros como ganadería de leche y carne en bovinos, ovinos y caprinos; frutales como manzanos y diversos berries; una gran diversidad de hortalizas y productos procesados como miel, ajo, berries y frutos silvestre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uestra organización tiene sede en Puerto Montt y mantiene estrechos vínculos de cooperación con otras organizaciones de productores como son la Asociación Gremial de Productores Los Ríos Orgánico (Región de Los Ríos) y la Asociación Gremial de Agricultores Orgánicos Tierra Viva (con sede en Santiago), en el marco del Movimiento Agroecológico Chileno A.G., organización de larga trayectoria en Chile e impulsor de la agroecología en el País desde 1993.</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Relevantes de la Red de Productores Orgánicos Décima Región A.G.</a:t>
            </a:r>
            <a:endParaRPr b="0" lang="en-US" sz="2800" spc="-1" strike="noStrike">
              <a:solidFill>
                <a:srgbClr val="000000"/>
              </a:solidFill>
              <a:latin typeface="Calibri"/>
            </a:endParaRPr>
          </a:p>
        </p:txBody>
      </p:sp>
      <p:sp>
        <p:nvSpPr>
          <p:cNvPr id="94" name=""/>
          <p:cNvSpPr txBox="1"/>
          <p:nvPr/>
        </p:nvSpPr>
        <p:spPr>
          <a:xfrm>
            <a:off x="457200" y="1341000"/>
            <a:ext cx="8229600" cy="47847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uestra organización está acreditada en el SAG para la Certificación Orgánica según la Norma Chilena DS17, bajo la modalidad de Sistema de Control Interno, acogiendo a 45 de nuestros socios que ya cumplen con el procedimient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procedimiento permite a organizaciones de pequeños agricultores lograr la certificación a costos mas accesibles pero autoriza solo la venta de productos a consumidores finales. Esto es insuficiente para la sustentabilidad económica de la pequeña producción orgánica, por lo cual, el mismo Sistema de Control Interno acreditado debe permitir el uso del sello orgánico en las transacciones nacionales, accediendo a otras formas de distribución como almacenes, restaurantes o supermercados.</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íneas de Acción Relevantes de la Red de Productores Orgánicos Décima Región A.G.</a:t>
            </a:r>
            <a:endParaRPr b="0" lang="en-US" sz="2800" spc="-1" strike="noStrike">
              <a:solidFill>
                <a:srgbClr val="000000"/>
              </a:solidFill>
              <a:latin typeface="Calibri"/>
            </a:endParaRPr>
          </a:p>
        </p:txBody>
      </p:sp>
      <p:sp>
        <p:nvSpPr>
          <p:cNvPr id="96" name=""/>
          <p:cNvSpPr txBox="1"/>
          <p:nvPr/>
        </p:nvSpPr>
        <p:spPr>
          <a:xfrm>
            <a:off x="457200" y="1341000"/>
            <a:ext cx="8229600" cy="4784760"/>
          </a:xfrm>
          <a:prstGeom prst="rect">
            <a:avLst/>
          </a:prstGeom>
          <a:noFill/>
          <a:ln w="0">
            <a:noFill/>
          </a:ln>
        </p:spPr>
        <p:txBody>
          <a:bodyPr anchor="t">
            <a:normAutofit fontScale="94000"/>
          </a:bodyPr>
          <a:p>
            <a:pPr marL="322200" indent="-322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Estamos trabajando en Protección del Patrimonio Genético de especies nativas y criollas</a:t>
            </a:r>
            <a:r>
              <a:rPr b="0" lang="es-CL" sz="2000" spc="-1" strike="noStrike">
                <a:solidFill>
                  <a:srgbClr val="000000"/>
                </a:solidFill>
                <a:latin typeface="Calibri"/>
              </a:rPr>
              <a:t>. </a:t>
            </a:r>
            <a:endParaRPr b="0" lang="en-US" sz="2000" spc="-1" strike="noStrike">
              <a:solidFill>
                <a:srgbClr val="000000"/>
              </a:solidFill>
              <a:latin typeface="Calibri"/>
            </a:endParaRPr>
          </a:p>
          <a:p>
            <a:pPr marL="322200" indent="-322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aborando y desarrollando una política de conservación y producción de semillas y material genético local o territorial.</a:t>
            </a:r>
            <a:endParaRPr b="0" lang="en-US" sz="1800" spc="-1" strike="noStrike">
              <a:solidFill>
                <a:srgbClr val="000000"/>
              </a:solidFill>
              <a:latin typeface="Calibri"/>
            </a:endParaRPr>
          </a:p>
          <a:p>
            <a:pPr marL="322200" indent="-322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leyes de obtentores de semillas ponen en peligro la riqueza de la biodiversidad local, a las variedades locales cultivadas y el intercambio de estas, práctica tradicional y ancestral entre agricultores que ha permitido la subsistencia de especies y variedades, tanto nativas como criollas, ya adaptadas a condiciones locales de suelo, clima y prácticas culturales, lo que les da un valor estratégico en momentos de posible inseguridad alimentaria.</a:t>
            </a:r>
            <a:endParaRPr b="0" lang="en-US" sz="1800" spc="-1" strike="noStrike">
              <a:solidFill>
                <a:srgbClr val="000000"/>
              </a:solidFill>
              <a:latin typeface="Calibri"/>
            </a:endParaRPr>
          </a:p>
          <a:p>
            <a:pPr marL="322200" indent="-322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uestra política de semillas debe evitar que suceda lo que en países como Australia y Canadá, en que a los agricultores se les imponen paquetes tecnológicos valiéndose de la propiedad de la genética de las semillas, estas políticas han hecho desaparecer a la pequeña y mediana agricultura de subsistencia, generalmente con consecuencias ambientales negativas. Poniendo en riesgo el abastecimiento de productos alimenticios sanos a la población. La agricultura industrial debe garantizar, resguardar  y convivir con la pequeña y mediana agricultura, no solamente es un tema social si no que debe ser entendido como una estrategia de seguridad alimentaria.</a:t>
            </a:r>
            <a:endParaRPr b="0" lang="en-US" sz="1800" spc="-1" strike="noStrike">
              <a:solidFill>
                <a:srgbClr val="000000"/>
              </a:solidFill>
              <a:latin typeface="Calibri"/>
            </a:endParaRPr>
          </a:p>
          <a:p>
            <a:pPr marL="322200" indent="-322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íneas de Acción Relevantes de la Red de Productores Orgánicos Décima Región A.G.</a:t>
            </a:r>
            <a:endParaRPr b="0" lang="en-US" sz="2400" spc="-1" strike="noStrike">
              <a:solidFill>
                <a:srgbClr val="000000"/>
              </a:solidFill>
              <a:latin typeface="Calibri"/>
            </a:endParaRPr>
          </a:p>
        </p:txBody>
      </p:sp>
      <p:sp>
        <p:nvSpPr>
          <p:cNvPr id="98" name=""/>
          <p:cNvSpPr txBox="1"/>
          <p:nvPr/>
        </p:nvSpPr>
        <p:spPr>
          <a:xfrm>
            <a:off x="457200" y="1341000"/>
            <a:ext cx="8229600" cy="4784760"/>
          </a:xfrm>
          <a:prstGeom prst="rect">
            <a:avLst/>
          </a:prstGeom>
          <a:noFill/>
          <a:ln w="0">
            <a:noFill/>
          </a:ln>
        </p:spPr>
        <p:txBody>
          <a:bodyPr anchor="t">
            <a:normAutofit fontScale="91000"/>
          </a:bodyPr>
          <a:p>
            <a:pPr marL="312120" indent="-3121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Estamos iniciando la puesta en marcha de nuestro </a:t>
            </a:r>
            <a:r>
              <a:rPr b="1" lang="es-CL" sz="2000" spc="-1" strike="noStrike" u="sng">
                <a:solidFill>
                  <a:srgbClr val="000000"/>
                </a:solidFill>
                <a:uFillTx/>
                <a:latin typeface="Calibri"/>
              </a:rPr>
              <a:t>Centro Demostrativo y de Capacitación en Agroecología y Agricultura Orgánica</a:t>
            </a:r>
            <a:r>
              <a:rPr b="1" lang="es-CL" sz="2000" spc="-1" strike="noStrike">
                <a:solidFill>
                  <a:srgbClr val="000000"/>
                </a:solidFill>
                <a:latin typeface="Calibri"/>
              </a:rPr>
              <a:t> en convenio con la Municipalidad de Purranque.</a:t>
            </a:r>
            <a:endParaRPr b="0" lang="en-US" sz="2000" spc="-1" strike="noStrike">
              <a:solidFill>
                <a:srgbClr val="000000"/>
              </a:solidFill>
              <a:latin typeface="Calibri"/>
            </a:endParaRPr>
          </a:p>
          <a:p>
            <a:pPr marL="312120" indent="-312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debe impulsar un Programa de Difusión y Capacitación en Agricultura Orgánica dirigido a agricultores, consultores, funcionarios de INDAP, SAG  y otras entidades como Salud y Educación con el fin de sensibilizar su práctica y el consumo de productos orgánicos. Estas capacitaciones podrían  hacerlas (entre otras entidades), previa acreditación, las mismas organizaciones de A.O. ya que tienen un conocimiento más profundo de los posibles capacitados y sus realidades locales, además estas capacitaciones les puede significar algunos ingresos que ayudarían en la expansión y mantención de las organizaciones o redes. </a:t>
            </a:r>
            <a:endParaRPr b="0" lang="en-US" sz="1800" spc="-1" strike="noStrike">
              <a:solidFill>
                <a:srgbClr val="000000"/>
              </a:solidFill>
              <a:latin typeface="Calibri"/>
            </a:endParaRPr>
          </a:p>
          <a:p>
            <a:pPr marL="312120" indent="-312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xiste un desconocimiento entre agricultores, consumidores, funcionarios de los ministerios de Agricultura, Salud, Educación, sobre la importancia que tiene la  práctica de A.O. en  sus dimensiones  ecológica y económica, esto hace que los trabajos de sensibilización sean muy difíciles especialmente en INDAP y SAG en que permanentemente frenan estas iniciativas por desconocimiento del tema, cometiendo errores significativos como la imposición de paquetes tecnológicos inapropiados en sistemas productivos locales muy frágiles, ecológica y culturalmente.</a:t>
            </a:r>
            <a:endParaRPr b="0" lang="en-US" sz="1800" spc="-1" strike="noStrike">
              <a:solidFill>
                <a:srgbClr val="000000"/>
              </a:solidFill>
              <a:latin typeface="Calibri"/>
            </a:endParaRPr>
          </a:p>
          <a:p>
            <a:pPr marL="312120" indent="-312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íneas de Acción Relevantes de la Red de Productores Orgánicos Décima Región A.G.</a:t>
            </a:r>
            <a:endParaRPr b="0" lang="en-US" sz="2400" spc="-1" strike="noStrike">
              <a:solidFill>
                <a:srgbClr val="000000"/>
              </a:solidFill>
              <a:latin typeface="Calibri"/>
            </a:endParaRPr>
          </a:p>
        </p:txBody>
      </p:sp>
      <p:sp>
        <p:nvSpPr>
          <p:cNvPr id="100" name=""/>
          <p:cNvSpPr txBox="1"/>
          <p:nvPr/>
        </p:nvSpPr>
        <p:spPr>
          <a:xfrm>
            <a:off x="457200" y="1125000"/>
            <a:ext cx="8229600" cy="5000760"/>
          </a:xfrm>
          <a:prstGeom prst="rect">
            <a:avLst/>
          </a:prstGeom>
          <a:noFill/>
          <a:ln w="0">
            <a:noFill/>
          </a:ln>
        </p:spPr>
        <p:txBody>
          <a:bodyPr anchor="t">
            <a:normAutofit fontScale="94000"/>
          </a:bodyPr>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Hemos acumulado gran experiencia en el aumento de la productividad de diversos rubros en base al manejo ecológico de la biodiversidad del suelo</a:t>
            </a:r>
            <a:endParaRPr b="0" lang="en-US" sz="2000" spc="-1" strike="noStrike">
              <a:solidFill>
                <a:srgbClr val="000000"/>
              </a:solidFill>
              <a:latin typeface="Calibri"/>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istema de Incentivos para la Recuperación de Suelos Degradados que lleva el SAG e INDAP (SIRSD) es un programa muy interesante por su cobertura e inspiración, la de recuperar suelos degradados. Sin embargo ha tenido una permanente dificultad en la acogida de prácticas orgánicas incentivando en forma  masiva  labores  que muy poco tienen que ver con la conservación de suelos. </a:t>
            </a:r>
            <a:endParaRPr b="0" lang="en-US" sz="1800" spc="-1" strike="noStrike">
              <a:solidFill>
                <a:srgbClr val="000000"/>
              </a:solidFill>
              <a:latin typeface="Calibri"/>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 indispensable que el SIRSD incluya en sus definiciones la biología de los suelos y no como hasta ahora en que solo se enmarca en las condiciones físicas y químicas. Si esto se cumple, las labores orgánicas tendrían la importancia que se merece. </a:t>
            </a:r>
            <a:endParaRPr b="0" lang="en-US" sz="1800" spc="-1" strike="noStrike">
              <a:solidFill>
                <a:srgbClr val="000000"/>
              </a:solidFill>
              <a:latin typeface="Calibri"/>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aplicación de guano rojo, roca fosfórica, incorporación de rastrojos, compost, abono verde o rotación de cultivos, son permanentemente puestos en duda por la generalidad de funcionarios y rechazan planes de manejo que incorporan estas prácticas. </a:t>
            </a:r>
            <a:r>
              <a:rPr b="1" lang="es-CL" sz="1800" spc="-1" strike="noStrike">
                <a:solidFill>
                  <a:srgbClr val="000000"/>
                </a:solidFill>
                <a:latin typeface="Calibri"/>
              </a:rPr>
              <a:t>Para garantizar la incorporación de éstas prácticas solicitamos que se incluyan a las organizaciones de A.O en los comités técnicos regionales del SIRSD</a:t>
            </a:r>
            <a:endParaRPr b="0" lang="en-US" sz="1800" spc="-1" strike="noStrike">
              <a:solidFill>
                <a:srgbClr val="000000"/>
              </a:solidFill>
              <a:latin typeface="Calibri"/>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que se pide es igualdad de condiciones ya que la A.O es reconocida como tal por el Estado y sus cultores (certificados o no) tienen todo el derecho a participar en él como cualquier ciudadano de este país. </a:t>
            </a:r>
            <a:endParaRPr b="0" lang="en-US" sz="1800" spc="-1" strike="noStrike">
              <a:solidFill>
                <a:srgbClr val="000000"/>
              </a:solidFill>
              <a:latin typeface="Calibri"/>
            </a:endParaRPr>
          </a:p>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Resumen Agrupación de Productores Orgánicos de Los Ríos y de Los Lagos</a:t>
            </a:r>
            <a:endParaRPr b="0" lang="en-US" sz="3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stas regiones se ajustó el programa para aplicaciones de superfosfato triple subsidiadas. Queda la sensación de la poca importancia que se le da a la A.O en el nuevo SIRSD</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a situación se puede revertir incluyendo a las organizaciones de productores orgánicos en los Comités Técnicos Regionales del SIRSD, entidades de decisión en las regiones donde no podemos seguir ausent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necesita realizar gestiones para que mejore esta situación y así sentirnos realmente  tomados en cuent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nuevo SIRSD es uno de los mejores instrumentos de apoyo a la agricultura nacional, no puede seguir fuera la A.O, menos si se trata de la recuperación de suelos degradado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Resumen Agrupación de Productores Orgánicos de Los Ríos y de Los Lagos</a:t>
            </a:r>
            <a:endParaRPr b="0" lang="en-US" sz="36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rograma SIRSD si bien ha reformulado sus normas haciéndolo algo mas inclusivo hacia la agricultura orgánica, estas son relativizadas en los Comités Técnicos Regional quienes a su antojo deciden que practicas incluir y cuales desech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la región De Los Lagos este Comité decidió incluir solamente los programas de fertilización fosfatada, enmiendas calcáreas y establecimiento de praderas, dejando fuera el de práctica pera la conservación de suelos siendo este último el único que le dio la cabida a practicas orgánic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260280"/>
            <a:ext cx="8229600" cy="4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poyo a la Agricultura Orgánica</a:t>
            </a:r>
            <a:endParaRPr b="0" lang="en-US" sz="2800" spc="-1" strike="noStrike">
              <a:solidFill>
                <a:srgbClr val="000000"/>
              </a:solidFill>
              <a:latin typeface="Calibri"/>
            </a:endParaRPr>
          </a:p>
        </p:txBody>
      </p:sp>
      <p:sp>
        <p:nvSpPr>
          <p:cNvPr id="47" name=""/>
          <p:cNvSpPr txBox="1"/>
          <p:nvPr/>
        </p:nvSpPr>
        <p:spPr>
          <a:xfrm>
            <a:off x="457200" y="765000"/>
            <a:ext cx="8229600" cy="56642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agricultura Orgánica es una actividad beneficiosa para el medio ambiente y la población Chilena, por esto consideramos de la máxima importancia que el Estado de Chile promueva la  Agricultura  Orgánica como camino para ser una POTENCIA AGROALIMENTARI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necesario apoyar el proceso de transición agrícola que normalmente significa un desmedro en las producciones durante un tiempo hasta el nuevo equilibrio del sistema productivo.</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oyar  la certificación de los productores orgánicos durante los 3 años de la transición mediante un subsidio al costo extra que deben asumir estos por sobre los convencional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requiere apoyo del Estado en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capacitación, financiamiento, investigación y desarrollo tecnológico, infraestructura, comercialización, legislación, potenciar los instrumentos del Estado  con líneas especificas para la agricultura orgánica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oyo a las practicas de restauración ecológica, conservación de la biodiversidad, corredores biológicos, terrenos relictos, conservación de cuencas, protección de riberas, espacios naturales y hábitat para la flora y fauna nativ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plementar el SIRS con técnicas entre otras de abonos verdes, uso de rocas  minerales y  fosfóricas , encalado, uso de compost, guanos, y residuos vegetal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642960"/>
            <a:ext cx="8229600" cy="2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poyo a la Agricultura Orgánica</a:t>
            </a:r>
            <a:endParaRPr b="0" lang="en-US" sz="2800" spc="-1" strike="noStrike">
              <a:solidFill>
                <a:srgbClr val="000000"/>
              </a:solidFill>
              <a:latin typeface="Calibri"/>
            </a:endParaRPr>
          </a:p>
        </p:txBody>
      </p:sp>
      <p:sp>
        <p:nvSpPr>
          <p:cNvPr id="49" name=""/>
          <p:cNvSpPr txBox="1"/>
          <p:nvPr/>
        </p:nvSpPr>
        <p:spPr>
          <a:xfrm>
            <a:off x="457200" y="999720"/>
            <a:ext cx="8229600" cy="5643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rcado Intern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poyar con recursos económicos una campaña nacional que de a conocer a la población que es la agricultura orgánica y promover su consum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alizar en todas las regiones un programa piloto de comercialización de productos orgánicos mediante la promoción de ferias libres y mercados orgánicos. Campañas publicitarias y boletines en radio y televis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mover el consumo de alimentos organicos en instituciones dependientes del estado como la JUNAEB,  hospita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642960"/>
            <a:ext cx="8229600" cy="2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poyo a la Agricultura Orgánica</a:t>
            </a:r>
            <a:endParaRPr b="0" lang="en-US" sz="2800" spc="-1" strike="noStrike">
              <a:solidFill>
                <a:srgbClr val="000000"/>
              </a:solidFill>
              <a:latin typeface="Calibri"/>
            </a:endParaRPr>
          </a:p>
        </p:txBody>
      </p:sp>
      <p:sp>
        <p:nvSpPr>
          <p:cNvPr id="51" name=""/>
          <p:cNvSpPr txBox="1"/>
          <p:nvPr/>
        </p:nvSpPr>
        <p:spPr>
          <a:xfrm>
            <a:off x="456840" y="999720"/>
            <a:ext cx="8435880" cy="56437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Mercado Externo</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cluir en las campañas de Imagen País a la Agricultura Orgánica.</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corporar los productos orgánicos  a las estadísticas de exportaciones, esto para conocer en detalle la evolución de la oferta País y contar con estadísticas oficiales actualizadas.</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mover el comercio internacional con programas dirigidos especialmente al sector.</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avorecer el trabajo de las asociaciones de productores orgánicos contribuyendo a  generar redes que busquen el beneficio común.</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uerdos internacionales</a:t>
            </a:r>
            <a:endParaRPr b="0" lang="en-US" sz="3200" spc="-1" strike="noStrike">
              <a:solidFill>
                <a:srgbClr val="000000"/>
              </a:solidFill>
              <a:latin typeface="Calibri"/>
            </a:endParaRPr>
          </a:p>
        </p:txBody>
      </p:sp>
      <p:sp>
        <p:nvSpPr>
          <p:cNvPr id="53" name=""/>
          <p:cNvSpPr txBox="1"/>
          <p:nvPr/>
        </p:nvSpPr>
        <p:spPr>
          <a:xfrm>
            <a:off x="457200" y="1214280"/>
            <a:ext cx="8229600" cy="5214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hile necesita validar y homologar la ley de producción orgánica nacional con nuestros principales socios comerciales, EEUU,  Canadá, EU, también con nuestros vecinos Argentina, Perú, Paraguay, Brasil, Bolivia, el ejemplo del reconocimiento con Taiwán ha sido muy bueno, se han abierto muchas opciones de desarrollo comercial con esa Nación gracias a tener stándares similares para los productos orgánic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necesario un compromiso y voluntad clara del gobierno para avanzar en esta materia, esto involucra asignar recursos, fijar objetivos , crear AGEND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reconocimiento de Chile en la UE como país tercero lleva muchos años tramitándose y aun no se logra nada, es clave para destrabar las exportaciones y disminuir costos burocráticos que restan competitividad a los exportadores Chilenos.</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549000"/>
            <a:ext cx="8229600" cy="5879880"/>
          </a:xfrm>
          <a:prstGeom prst="rect">
            <a:avLst/>
          </a:prstGeom>
          <a:noFill/>
          <a:ln w="0">
            <a:noFill/>
          </a:ln>
        </p:spPr>
        <p:txBody>
          <a:bodyPr anchor="t">
            <a:normAutofit/>
          </a:bodyPr>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Calibri"/>
              </a:rPr>
              <a:t>Ley 20089</a:t>
            </a:r>
            <a:endParaRPr b="0" lang="en-US" sz="3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Ley 20.089 ha sido un inmenso aporte y avance en el desarrollo de la Agricultura Organica en Chile, pero  contiene errores y vacios que dificultan el desarrollo actual de la actividad.</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solución a problemas del reglamento ha sido imposible hasta la fecha tomando tiempos excesivos en las resolucion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necesario el Gobierno apoye activamente el perfeccionamiento de  la normativa. Esto favorecerá el desarrollo del sector.</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pequeños productores necesitan con Urgencia la modificación del articulo Nº 3 que imposibilita la venta a terceros de sus productos, esto les resta competitividad respecto al resto y limita seriamente su desarrollo.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 referente a insumos y productos aprobados para uso en la AO ha generado enormes problemas a productores y comercializadores  que desean vender en Chile, esto lleva casi tres años en discusión con las autoridades y no hay aun solució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85880" y="499680"/>
            <a:ext cx="77724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Agricultura Organica y los transgenicos</a:t>
            </a:r>
            <a:endParaRPr b="0" lang="en-US" sz="2800" spc="-1" strike="noStrike">
              <a:solidFill>
                <a:srgbClr val="000000"/>
              </a:solidFill>
              <a:latin typeface="Calibri"/>
            </a:endParaRPr>
          </a:p>
        </p:txBody>
      </p:sp>
      <p:sp>
        <p:nvSpPr>
          <p:cNvPr id="56" name="PlaceHolder 2"/>
          <p:cNvSpPr>
            <a:spLocks noGrp="1"/>
          </p:cNvSpPr>
          <p:nvPr>
            <p:ph type="subTitle"/>
          </p:nvPr>
        </p:nvSpPr>
        <p:spPr>
          <a:xfrm>
            <a:off x="539640" y="1268280"/>
            <a:ext cx="8064720" cy="5113440"/>
          </a:xfrm>
          <a:prstGeom prst="rect">
            <a:avLst/>
          </a:prstGeom>
          <a:noFill/>
          <a:ln w="0">
            <a:noFill/>
          </a:ln>
        </p:spPr>
        <p:txBody>
          <a:bodyPr anchor="t">
            <a:noAutofit/>
          </a:bodyPr>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gricultores Orgánicos de Chile consideramos que los Organismos genéticamente modificados (OGM), transgénicos , Implican para Chile un riesgo innecesario de asumir hoy. </a:t>
            </a: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Múltiples las ventajas de SER UN PAIS LIBRE DE OGM y de Riesgo de contaminación transgénica.</a:t>
            </a: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da vez son menos los países que están libres de transgénicos y el valor de conservar la producción agrícola libre de OGM será una ventaja comercial muy importante en el futuro.</a:t>
            </a: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limentos que contengan transgénicos deben ser etiquetados debidamente.</a:t>
            </a: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empresas o productores que cultiven vegetales transgénicos con fines de investigación o multiplicación  deben ser supervisados y  cumplir con protocolos de bioseguridad que garanticen  su inocuidad.</a:t>
            </a: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Estos atributos en los alimentos  (libre de transgénicos) son  cada vez mas valorados por una población informada y preocupada por el medio ambiente y su salud.</a:t>
            </a: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Necesario  tener acuerdos amplios como país frente a un tema tan importante.</a:t>
            </a: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in Transgénicos  Chile gana, con Transgénicos Chile Pierde.</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endParaRPr b="0" lang="en-US" sz="4400" spc="-1" strike="noStrike">
              <a:solidFill>
                <a:srgbClr val="000000"/>
              </a:solidFill>
              <a:latin typeface="Calibri"/>
            </a:endParaRPr>
          </a:p>
        </p:txBody>
      </p:sp>
      <p:sp>
        <p:nvSpPr>
          <p:cNvPr id="58" name="PlaceHolder 2"/>
          <p:cNvSpPr>
            <a:spLocks noGrp="1"/>
          </p:cNvSpPr>
          <p:nvPr>
            <p:ph type="subTitle"/>
          </p:nvPr>
        </p:nvSpPr>
        <p:spPr>
          <a:xfrm>
            <a:off x="971640" y="3860280"/>
            <a:ext cx="6400800" cy="175284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98989"/>
                </a:solidFill>
                <a:latin typeface="Calibri"/>
              </a:rPr>
              <a:t>Una </a:t>
            </a:r>
            <a:r>
              <a:rPr b="1" lang="es-CL" sz="2000" spc="-1" strike="noStrike">
                <a:solidFill>
                  <a:srgbClr val="898989"/>
                </a:solidFill>
                <a:latin typeface="Calibri"/>
              </a:rPr>
              <a:t>Asociación gremial de productores Orgánicos</a:t>
            </a:r>
            <a:r>
              <a:rPr b="0" lang="es-CL" sz="2000" spc="-1" strike="noStrike">
                <a:solidFill>
                  <a:srgbClr val="898989"/>
                </a:solidFill>
                <a:latin typeface="Calibri"/>
              </a:rPr>
              <a:t>, constituida en Noviembre de 2007, en la región que más asociados certificados pose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98989"/>
                </a:solidFill>
                <a:latin typeface="Calibri"/>
              </a:rPr>
              <a:t>Presenta…..</a:t>
            </a:r>
            <a:endParaRPr b="0" lang="en-US" sz="2000" spc="-1" strike="noStrike">
              <a:solidFill>
                <a:srgbClr val="000000"/>
              </a:solidFill>
              <a:latin typeface="Calibri"/>
            </a:endParaRPr>
          </a:p>
        </p:txBody>
      </p:sp>
      <p:pic>
        <p:nvPicPr>
          <p:cNvPr id="59" name="Picture 4" descr="logo BBO"/>
          <p:cNvPicPr/>
          <p:nvPr/>
        </p:nvPicPr>
        <p:blipFill>
          <a:blip r:embed="rId1"/>
          <a:stretch/>
        </p:blipFill>
        <p:spPr>
          <a:xfrm>
            <a:off x="1619280" y="620640"/>
            <a:ext cx="5400720" cy="28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03:44:12Z</dcterms:created>
  <dc:creator>Pilar Eguillor Recabarren</dc:creator>
  <dc:description/>
  <dc:language>en-US</dc:language>
  <cp:lastModifiedBy>gpino</cp:lastModifiedBy>
  <dcterms:modified xsi:type="dcterms:W3CDTF">2010-12-27T20:40:39Z</dcterms:modified>
  <cp:revision>22</cp:revision>
  <dc:subject/>
  <dc:title>Diapositiva 1</dc:title>
</cp:coreProperties>
</file>